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33.jpeg" ContentType="image/jpeg"/>
  <Override PartName="/ppt/media/image20.jpeg" ContentType="image/jpeg"/>
  <Override PartName="/ppt/media/image12.png" ContentType="image/png"/>
  <Override PartName="/ppt/media/image29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489-F85E-46B1-81F8-56FB5895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change because they have an inborn urge to become better suited to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could cause changes  in their own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bodies could be inher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opulations of organisms tend to overpop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individuals surv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differences occur in 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individuals with traits best suited to the environment survive (passing their traits on to their offsp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 as a whole becomes better “fit” for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E0F-E2A0-4B6A-8459-E8706647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96C-5F9C-4BFC-A051-774D165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8C1-82EC-4F88-9F73-C0AEBB1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87E-F3DE-472B-85E0-5DB29154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56F-EF27-4AC8-AD8D-AF238E0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08C-CA23-4564-8612-0D1B999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08A-262A-4B60-A009-C5F982D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C52-6AB4-4F61-89C0-77BAC2E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F8A-89BB-45ED-A687-E222876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AA0-D6CA-44C2-B239-D223C4A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DDF-EBD6-44D9-96B6-87059AE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4EC-88F1-40BD-9D3E-021D02E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D36-D6B4-48E7-B47D-937533A7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ossils, scientists have put toge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ologic time sc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rth hist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e d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termining the age of a rock by comparing it to other fossils in rock layers above or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olute d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using the rate of decay (half-life) of radioactive elements (Carbon-14, Uranium-235, etc.) to determine the age of a fos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2120" y="2128680"/>
            <a:ext cx="3968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parative 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similarities and differences between embryos of different species at early stages of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losely related species differences do not appear until very late stages of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ss closely related species are the earlier differences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610160" cy="117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60044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tomy = body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ous structures – are similar in structure &amp;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r the similarities the more closely related 2 specie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gial organs – organs that have no known function (Ex: 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620800"/>
            <a:ext cx="40384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Comparative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makeup of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compounds used are DNA, ATP, Hemoglobin, and other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imilarities in chemical composition the more closely related 2 speci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447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s of organisms present at a given period of the earth’s history have cha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sms are no longer living on earth (extin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similarities between species increases the more closely related the two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of 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omplete – fossils occur by chance when organisms do not decay (trapped in sediments, tar or tree sap), most organisms decay without forming a fos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– preservation varies – only part of body, footprints or impression may be fossi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– determining the age of a fossil is not exact – ages are usually approximates and not absol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429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Evidenc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ppered Moth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fore the Industrial Revolution in England peppered moths were mostly light brown but a few were dark. During daylight moths rested on tree trunks which were light colored. During the I.R. soot from burning coal coated trees. How did the population of moth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light colored moths in the population de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dark moths decreased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51280" y="1600200"/>
            <a:ext cx="383220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49920" y="3938760"/>
            <a:ext cx="36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biotic Resistant Bacte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occurred in the last 8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se &amp; overuse of antibiotics have contributed to th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everal strains of bacteria that have become resis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include bacteria that cause gonorrhea, TB, and Staph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24280" y="5562720"/>
            <a:ext cx="403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p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esh-eating Bac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sect Resistance to Pestici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genetics is present in a small number of insects in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sticides are not rotated, the percentage of resistant insects in a population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7760" y="1600200"/>
            <a:ext cx="299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eed Resistance to Herbicid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icide are not known to directly cause the genetic change that allow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present in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ame herbicides are used over several seasons, the resistant weeds survive and a greater percentage of the population are res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7400" y="2557440"/>
            <a:ext cx="4000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ge in species of organisms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by which modern organisms have descended from ancient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heory of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redited to Charles Darw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many scientists developed theories about evolution and contributed to the modern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Variation in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tic 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that reproduce sexually inherit ½ of their genes from each parent, this increases variation in individuals (individual differ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DNA or chromosomes create variation in individu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648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Points to 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occur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p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not in individual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s only occur if individual differences can be passed on to offspring (inheri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is any change in the relative frequency of a gene pool of a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ary changes only occur in response to changes in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884240"/>
            <a:ext cx="40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Fitn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cess organism has in passing it’s genes on to the next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 genetically controlled characteristic of an organism that increases it’s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up of organisms that interbreed in nature and produce fertile offsp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48240" y="203364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evelopment of a new spec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s when 2 populations are isolated (separated) &amp; cannot interbr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opulations undergo different changes based on the variations in each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ong term separation the 2 populations  may develop reproductive barriers (reproductive isol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reproductive isolation has occurred the 2 populations are considered separate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35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oductive barrier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reeding s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urtship rit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at is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not viable (do not l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ste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will not fuse. Fertilized egg not viable (will not develo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2160" y="1600200"/>
            <a:ext cx="144936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3938760"/>
            <a:ext cx="1446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graphic barriers isolate popul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ications to Darwin’s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hanged Gene P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ene pools remain relatively unchanged for long periods of time.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jor changes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is well ada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etition by invading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7880" y="3938760"/>
            <a:ext cx="364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ndom change in the frequency of a gene in a gen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there is a random environmental event (eruption of a volca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that not all characteristics contribute to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1080" y="1600200"/>
            <a:ext cx="33292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3600" y="1600200"/>
            <a:ext cx="3247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periods in which there is not change in a population followed by short periods of rapid change. (Ex: peppered mo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ill a controversial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sult from dramatic changes in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54360" y="3938760"/>
            <a:ext cx="36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cient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8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oints to hi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sire to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&amp; dis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of acquired tra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6576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w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ggle for Exis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al of the Fit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of a Pop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4720" y="1600200"/>
            <a:ext cx="394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 &amp; Darwin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of organisms all the same (no vari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ccu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can change in response to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rganisms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of organisms with individual differences (vari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ccu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elects” for or against certain vari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organisms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31, Darwin was hired as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rson who studies nature) aboar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MS Bea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yage would last 5 years and trave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ach stop Darwin collected specimens of plants, animals, rocks and fossils. He also kept detailed observations about the specimens and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win also studied 3 books – 1) written by his grandfather about differences in individuals, 2) Lyell’s book about geological events, 3) written by Malthus about human population outgrowing the environ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688000" y="1600200"/>
          <a:ext cx="1959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1600200"/>
                    <a:ext cx="1959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648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arwin returned to England he studied how farmers 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mprove livestock herds and crop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Darwin almost 30 years after his return to write his book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Origin of Species by Natural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y which populations of organisms become better “fit” (suited to their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that are “fit” live longer and produce more offspring (pass on their geneti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used the term “adaptation” to describe any inherited characteristic that increases an organisms ability to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Evidence in Support of Darw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639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1:06Z</dcterms:created>
  <dc:creator>Preferred Customer</dc:creator>
  <dc:description/>
  <dc:language>en-US</dc:language>
  <cp:lastModifiedBy>Tricia</cp:lastModifiedBy>
  <dcterms:modified xsi:type="dcterms:W3CDTF">2007-03-28T13:31:31Z</dcterms:modified>
  <cp:revision>18</cp:revision>
  <dc:subject/>
  <dc:title>Chapters 13 &amp; 14</dc:title>
</cp:coreProperties>
</file>